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3E3-4949-4FE0-943A-BCA8B627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B55-8A43-4DBA-839E-0FB95BCB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B3F-AEB3-4041-BB27-BBE52B00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A5BC-3323-4637-B9D0-2FC75713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0538-EAA0-495F-B780-C6370C11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ED46-9A66-4394-AA3B-5FAB567D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29B5-13A5-4685-8B32-A58CC6FD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54DC-07EC-4360-BE90-EC1FB1AE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E4C2-E432-4A63-BD45-0405C67B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7CBF-24A0-4C7A-A3CE-70FD58EB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5A8E-B837-4F8A-B2C9-82C8E500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E0A-84FE-4F7C-923F-2FDA1428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950D-85C3-4A5C-8441-3212C328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3E1E-0B14-4F86-918E-DBDF89D2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BB19-C5E3-48F6-9552-990B6EBC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1E17-973F-47AC-BADE-45076CB0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8404-4960-4F15-A6A1-07FF6E2B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CDA-FB6E-4DD2-93F7-159DA24B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3C3-B627-48A4-9504-44FB5D5C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B4D-5754-46B1-88BF-27D04A86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D2B-A9A1-469A-B6D6-CD117B75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0A4-C17D-4BDF-9393-163F59AA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049-0E61-4163-A2C1-6D2120DB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02C-7BAC-4AC5-8C9D-DAFE2E26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C44C-E972-4720-AB77-542FCCA2F6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0BEC-160B-44D7-8F33-B60330B26547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752760" y="475200"/>
            <a:ext cx="74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DETERMINANTES DEL SUSTANTIVO</a:t>
            </a:r>
            <a:r>
              <a:rPr b="1" lang="es-ES" sz="1800" spc="-1" strike="noStrike">
                <a:solidFill>
                  <a:srgbClr val="ffff66"/>
                </a:solidFill>
                <a:latin typeface="Arial Black"/>
              </a:rPr>
              <a:t>:</a:t>
            </a:r>
            <a:r>
              <a:rPr b="0" lang="es-ES" sz="1800" spc="-1" strike="noStrike">
                <a:solidFill>
                  <a:srgbClr val="ffff66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042920" y="422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9640" y="483084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95280" y="162864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palabras variables relacionadas con los nombr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que sirven para acompañar y   delimitar su significad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y concuerdan con ellos en género y numer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Su  función fundamental 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señalar en que momento del proceso comunicativo se halla cada elem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CasellaDiTesto 5"/>
          <p:cNvSpPr/>
          <p:nvPr/>
        </p:nvSpPr>
        <p:spPr>
          <a:xfrm>
            <a:off x="9644040" y="1643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b7"/>
                </a:solidFill>
                <a:uFillTx/>
                <a:latin typeface="Verdana"/>
              </a:rPr>
              <a:t>Función sustantivadora</a:t>
            </a: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lante de una palabra que no es nombre o de una fr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esperar no me impo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que vayas al cine con mi novio no me gu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sustantivar adjetivos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lo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bueno,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útil,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agradable,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curioso,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importante).                                                        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malo es que no podemos 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Verdana"/>
              </a:rPr>
              <a:t>Hay función sustantivadora también cuando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sobreentiende un sustantivo que ha aparecido 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Quién es el chico de gafas? </a:t>
            </a: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 que te presenté 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Manolo tiene tres hermanas. Cual es </a:t>
            </a: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la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 mas boni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Quién es tu hermano? </a:t>
            </a: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 de pelo rub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000" y="0"/>
            <a:ext cx="80074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de + sustantivo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para referirse a algo que lo interlocutores conocen para abrevia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de Juan no tiene import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de +Verbo :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ara indicar que se hace referencia a algo ya menciona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de salir a esta hora me parece peligr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de +frase introducida por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de que está enfermo no me lo cr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8385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valor enfático del artículo </a:t>
            </a:r>
            <a:r>
              <a:rPr b="1" lang="es-ES" sz="2800" spc="-1" strike="noStrike" u="sng">
                <a:solidFill>
                  <a:srgbClr val="ffffb7"/>
                </a:solidFill>
                <a:uFillTx/>
                <a:latin typeface="Verdana"/>
              </a:rPr>
              <a:t>Lo</a:t>
            </a: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ara enfatizar  adjetivos y adverbio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!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grande que es esta casa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! No puedes imaginar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bien que canta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s de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más ton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209600" y="357336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valor enfático del artículo en otras formas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función enfática no es sólo exclusiva de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l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, sino también de otras form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No imaginas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gente que hab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Había mucha gent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Hay que ver </a:t>
            </a: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l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calor que h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 Hace mucho cal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b7"/>
                </a:solidFill>
                <a:latin typeface="Verdana"/>
              </a:rPr>
              <a:t>Si se habla de elementos que ya han aparecido o cuya  existencia se  conoce</a:t>
            </a:r>
            <a:r>
              <a:rPr b="1" lang="es-ES" sz="2800" spc="-1" strike="noStrike" u="sng">
                <a:solidFill>
                  <a:srgbClr val="ffffb7"/>
                </a:solidFill>
                <a:uFillTx/>
                <a:latin typeface="Verdana"/>
              </a:rPr>
              <a:t> (segunda mención)  </a:t>
            </a:r>
            <a:r>
              <a:rPr b="1" i="1" lang="es-ES" sz="2800" spc="-1" strike="noStrike">
                <a:solidFill>
                  <a:srgbClr val="ffffb7"/>
                </a:solidFill>
                <a:latin typeface="Verdan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Con sustantivos contables se us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l/ la</a:t>
            </a: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 y </a:t>
            </a:r>
            <a:r>
              <a:rPr b="1" i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los /las</a:t>
            </a: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He llegado tarde porque se me ha estropeado </a:t>
            </a:r>
            <a:r>
              <a:rPr b="1" i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l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co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Me acompañas? Tengo que recoger a </a:t>
            </a:r>
            <a:r>
              <a:rPr b="1" i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los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niños  al coleg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con sustantivos no contables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olo el singular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l / la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. </a:t>
            </a:r>
            <a:br>
              <a:rPr sz="3200"/>
            </a:b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¿Ya has tomado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café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87948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858240" y="619920"/>
            <a:ext cx="56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xcepciones a la regl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1124640" y="1605960"/>
            <a:ext cx="627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lante de nombres femeninos sing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que comienzan en por 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Verdana"/>
              </a:rPr>
              <a:t>a tónica 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o 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Verdana"/>
              </a:rPr>
              <a:t>hace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se pone el artículo masculin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400" spc="-1" strike="noStrike" u="sng">
                <a:solidFill>
                  <a:srgbClr val="ff0000"/>
                </a:solidFill>
                <a:uFillTx/>
                <a:latin typeface="Verdana"/>
              </a:rPr>
              <a:t>el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 – un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(el agua, el hacha, un águila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plural </a:t>
            </a:r>
            <a:r>
              <a:rPr b="0" i="1" lang="es-ES" sz="2400" spc="-1" strike="noStrike" u="sng">
                <a:solidFill>
                  <a:srgbClr val="ff0000"/>
                </a:solidFill>
                <a:uFillTx/>
                <a:latin typeface="Verdana"/>
              </a:rPr>
              <a:t>las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(las aguas, las hachas, unas aguil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No siguen la excepción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nombres de letras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hache- una h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si el nombre que empieza por a- ha es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recedido por un adjetiv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hambre terrible –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una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terrible hambre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2349360"/>
            <a:ext cx="8281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Contracción del artículo: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A+ el = al        de + el= </a:t>
            </a:r>
            <a:r>
              <a:rPr b="1" i="1" lang="es-ES" sz="2800" spc="-1" strike="noStrike">
                <a:solidFill>
                  <a:srgbClr val="ff0000"/>
                </a:solidFill>
                <a:latin typeface="Verdana"/>
              </a:rPr>
              <a:t>del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á encima del mueble</a:t>
            </a:r>
            <a:br>
              <a:rPr sz="4000"/>
            </a:br>
            <a:br>
              <a:rPr sz="40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Al final de la calle hay una farmaci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Verdana"/>
              </a:rPr>
              <a:t>Clasificación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artícu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osesivos  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emonstrativos 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definidos 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umerales 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terrogativos*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exclamativos*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b7"/>
                </a:solidFill>
                <a:latin typeface="Verdana"/>
              </a:rPr>
              <a:t>El  Artículo y su combinación :</a:t>
            </a: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va siempre delante del sustantivo pero permite intercalar otras palabras (adjetivos, adverbios)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antigua casa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unca va precedido de otros  determinan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cepo todo/a , todos/a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todos los viernes – todo el terr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Puede ir seguido de: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numeral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(cardinales y ordinale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os tres bolígrafos, las segundas par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indefinid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: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os pocos alum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 combinarse con varios de ellos: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os otros tres alumnos, los primeros dos alum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00748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USOS CON 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8280" y="1220760"/>
            <a:ext cx="647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ser +  Ø + sustantivo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/adjetivo para clasific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un sustantivo no modificado que identif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ofesiones, nacionalidades, afiliacione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Su padre es arquitecto/ Su abuela es cato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035360" y="2852640"/>
            <a:ext cx="681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ser + un/una  el/la + sust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identifica el sujet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sistiendo en su individualid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Es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un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arquitecto muy conocido en todo el mu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Es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el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arquitecto más conocido en el mu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880920" y="4929120"/>
            <a:ext cx="786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Ser + un/una + adjetivo 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lgo negativo sobre el suje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Eres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un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imbécil. ¿no ves que lo has ro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b7"/>
                </a:solidFill>
                <a:latin typeface="Verdana"/>
              </a:rPr>
              <a:t>CON LOS DíAS DE LA SEMANA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b7"/>
                </a:solidFill>
                <a:latin typeface="Verdana"/>
              </a:rPr>
              <a:t>Se usa ser + día de la semana para </a:t>
            </a:r>
            <a:br>
              <a:rPr sz="2400"/>
            </a:br>
            <a:r>
              <a:rPr b="0" lang="es-ES" sz="2400" spc="-1" strike="noStrike">
                <a:solidFill>
                  <a:srgbClr val="ffffb7"/>
                </a:solidFill>
                <a:latin typeface="Verdana"/>
              </a:rPr>
              <a:t>decir que día es</a:t>
            </a:r>
            <a:r>
              <a:rPr b="0" i="1" lang="es-ES" sz="2400" spc="-1" strike="noStrike">
                <a:solidFill>
                  <a:srgbClr val="ffffb7"/>
                </a:solidFill>
                <a:latin typeface="Verdana"/>
              </a:rPr>
              <a:t>. Hoy es marte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b7"/>
                </a:solidFill>
                <a:latin typeface="Verdana"/>
              </a:rPr>
              <a:t>En los demás casos se emplea artículo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b7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ffffb7"/>
                </a:solidFill>
                <a:latin typeface="Verdana"/>
              </a:rPr>
              <a:t>El miércoles (pasado) estuve comiendo con Miguel.  –</a:t>
            </a:r>
            <a:br>
              <a:rPr sz="2400"/>
            </a:br>
            <a:r>
              <a:rPr b="0" i="1" lang="es-ES" sz="2400" spc="-1" strike="noStrike">
                <a:solidFill>
                  <a:srgbClr val="ffffb7"/>
                </a:solidFill>
                <a:latin typeface="Verdana"/>
              </a:rPr>
              <a:t> El examen es el jueves 24 de junio.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2666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572760" y="619920"/>
            <a:ext cx="782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Se usa el artículo  en español y  no en italiano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321480" y="1268280"/>
            <a:ext cx="56037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ovimiento hacia un lugar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Voy a </a:t>
            </a:r>
            <a:r>
              <a:rPr b="0" i="1" lang="es-ES" sz="2400" spc="-1" strike="noStrike" u="sng">
                <a:solidFill>
                  <a:srgbClr val="ff0000"/>
                </a:solidFill>
                <a:uFillTx/>
                <a:latin typeface="Verdana"/>
              </a:rPr>
              <a:t>la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playa después  de las dos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partes de la casa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Voy </a:t>
            </a:r>
            <a:r>
              <a:rPr b="0" i="1" lang="es-ES" sz="2400" spc="-1" strike="noStrike" u="sng">
                <a:solidFill>
                  <a:srgbClr val="ff0000"/>
                </a:solidFill>
                <a:uFillTx/>
                <a:latin typeface="Verdana"/>
              </a:rPr>
              <a:t>al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salón para ver la te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52280" y="28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-324720" y="3429000"/>
            <a:ext cx="94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164520" y="5589720"/>
            <a:ext cx="34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Verdana"/>
              </a:rPr>
              <a:t>Casos en que las dos lenguas actúan en el mismo modo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muchos complementos de estado en luga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Vivo e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l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ciudad – Está e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suelo – Está e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l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cocina - .Está e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l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escuela – Está e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ca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casa está e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bosque – Como e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plato de plás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caso de movimiento com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Voy a casa, a clase,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a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Para aproximar un número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Había </a:t>
            </a: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una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trescientas personas en la fi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s un joven de </a:t>
            </a: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uno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veinte añ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Delante de los numerales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361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Los dos, tre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toma el significado italiano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utti e due, tre..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El artículo es obligatorio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lante de nombres como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papa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rey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Estaba presente el rey Juan Car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lante del sintagma 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jugar a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Me gusta jugar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al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fútb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n los puntos card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La casa estab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al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no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construcciones com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la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derecha – 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la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izquier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ffffb7"/>
                </a:solidFill>
                <a:latin typeface="Verdana"/>
              </a:rPr>
              <a:t>.</a:t>
            </a:r>
            <a:r>
              <a:rPr b="0" lang="es-ES" sz="2400" spc="-1" strike="noStrike">
                <a:solidFill>
                  <a:srgbClr val="ffffb7"/>
                </a:solidFill>
                <a:latin typeface="Verdana"/>
              </a:rPr>
              <a:t>,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Se usa el artículo  en italiano y no en español: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lante de nombres geográfic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(continentes, paises, region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Andalucía es una región del sur de Españ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Italia es una peníns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(países que quieren el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 artículo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: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la India, los Países Bajos, el Salvador, el Japón, el Perú, los Estados Unidos,el Uruguay, el Canada, la Chi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Después de  CIER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Hay cierto juego de cartas que conoz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Después de MEDIO- TAL – 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Nunca he visto tal competenci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66"/>
                </a:solidFill>
                <a:uFillTx/>
                <a:latin typeface="Arial Black"/>
              </a:rPr>
              <a:t>Articulo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 un actualizador del sustantivo, al que siempre proce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u función es determinar si el sustantivo al que se refiere ya ha aparecido en el contexto o si está en su primera aparició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b7"/>
                </a:solidFill>
                <a:uFillTx/>
                <a:latin typeface="Arial Black"/>
              </a:rPr>
              <a:t>Se usa el artículo  en italiano y no en español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lante de lo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djetivos posesiv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yer salimos con nuestros amig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lante del adjetivo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otro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:    He leido otro lib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 expresar las horas,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delante de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uarto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”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Son las tres y cuar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lante del adjetivo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semejante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”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¿Quién te ha contado semejante estupidez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b7"/>
                </a:solidFill>
                <a:latin typeface="Verdana"/>
              </a:rPr>
              <a:t>Helbig y Busha – identificación del artículo determinado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dentificación autom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dentificación por el context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dentificación por el contexto situacional concr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dentificación por el contexto lingüíst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8880" y="475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b7"/>
                </a:solidFill>
                <a:uFillTx/>
                <a:latin typeface="Arial Black"/>
              </a:rPr>
              <a:t>Identificación automática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sustantivo al que acompaña el artículo se refiere a ideas u objetos únicos  reconocibles por nuestro  conocimiento del mun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. “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La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lealdad es preciosa en un amigo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necio, al hablar, siempre hace daño”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fumo es dañino para la salud”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 deixis e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exofóric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5680" y="284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b7"/>
                </a:solidFill>
                <a:uFillTx/>
                <a:latin typeface="Verdana"/>
              </a:rPr>
              <a:t>Identificación por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Verdana"/>
              </a:rPr>
              <a:t>context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Los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partidos políticos se han reunido para decid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250280" y="3068640"/>
            <a:ext cx="47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Verdana"/>
              </a:rPr>
              <a:t>contexto situacional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 u="sng">
                <a:solidFill>
                  <a:srgbClr val="ffffff"/>
                </a:solidFill>
                <a:uFillTx/>
                <a:latin typeface="Verdana"/>
              </a:rPr>
              <a:t>concret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241640" y="373536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Termina </a:t>
            </a: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los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ejercicios”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574640" y="46641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Verdana"/>
              </a:rPr>
              <a:t>contexto lingüístic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644120" y="509580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Ej. De toda </a:t>
            </a:r>
            <a:r>
              <a:rPr b="1" i="1" lang="it-IT" sz="24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producción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b7"/>
                </a:solidFill>
                <a:latin typeface="Verdana"/>
              </a:rPr>
              <a:t>El artículo indeterminado (</a:t>
            </a:r>
            <a:r>
              <a:rPr b="1" lang="es-ES" sz="2400" spc="-1" strike="noStrike">
                <a:solidFill>
                  <a:srgbClr val="ffffb7"/>
                </a:solidFill>
                <a:latin typeface="Arial Black"/>
              </a:rPr>
              <a:t>Helbig y Busha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alor genera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120" y="24192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signa el representante de la clase, es decir,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particulariz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unque el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significado sigu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siendo genera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82160" y="3735360"/>
            <a:ext cx="602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Un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caballero español nunca miente”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l caballero español nunca mient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troduce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algo no mencionado anteriormente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,   frente al determinado, que siempre introduce elementos conoc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Ponme </a:t>
            </a:r>
            <a:r>
              <a:rPr b="1" i="1" lang="es-ES" sz="2400" spc="-1" strike="noStrike">
                <a:solidFill>
                  <a:srgbClr val="ff0000"/>
                </a:solidFill>
                <a:latin typeface="Verdana"/>
              </a:rPr>
              <a:t>un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terrón de azucar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 “</a:t>
            </a:r>
            <a:r>
              <a:rPr b="1" i="1" lang="es-ES" sz="2400" spc="-1" strike="noStrike">
                <a:solidFill>
                  <a:srgbClr val="ff0000"/>
                </a:solidFill>
                <a:latin typeface="Verdana"/>
              </a:rPr>
              <a:t>Un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niño saltó a la piscina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089360" y="27144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Verdana"/>
              </a:rPr>
              <a:t>Valor particula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b7"/>
                </a:solidFill>
                <a:uFillTx/>
                <a:latin typeface="Arial Black"/>
              </a:rPr>
              <a:t>Valor enfático: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tilizando el artículo indeterminado antes de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nombres propi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Ej. “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Camilleri no escribiría nunca  estas tonter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s-ES" sz="2400" spc="-1" strike="noStrike">
                <a:solidFill>
                  <a:srgbClr val="ffffb7"/>
                </a:solidFill>
                <a:latin typeface="Arial Black"/>
              </a:rPr>
              <a:t>ALARCOS LLORACH  - ESTUDIOS DE GRAMATICA FUNCIONAL DEL ESPANOL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signo morfologico dependiente que se relaciona con un elemento autonomo, el nomb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artículo tiene doble función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termin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ustantiv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sustantiv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antepuesto a elementos cuya función  habitual no es la de nombre, los sustantiv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blanco,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bueno,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beber, 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que seas pobre, 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la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de la derec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03400" y="298764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Arial Black"/>
              </a:rPr>
              <a:t>El artículo es obligatorio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frases como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perro ladra, Lee el libr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Mira el paisaje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o al plural  puede ir también  sin artícu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dran perros, Lee libros, Mira paisajes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en algunos casos el artículo</a:t>
            </a:r>
            <a:r>
              <a:rPr b="1" lang="es-ES" sz="4000" spc="-1" strike="noStrike">
                <a:solidFill>
                  <a:srgbClr val="ffffb7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confiere al nombre común valores de nombre propio: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Son juguetes de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Son juguetes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del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ni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segunda secuencia es conmutable con un nombre propi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os juguetes son de Juani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136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”..es más adecuado hablar de artículos de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primera mención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y  artículos de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segunda mención (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Matte Bon)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971280" y="2781360"/>
            <a:ext cx="7465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s necesario saber  si se refier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n general a todos los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individuos de una categorí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referencia genéric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o a uno o algunos individu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referencia específica 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b7"/>
                </a:solidFill>
                <a:latin typeface="Verdana"/>
              </a:rPr>
              <a:t>(ALARCOS LLORACH)</a:t>
            </a:r>
            <a:r>
              <a:rPr b="1" lang="es-ES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it-IT" sz="2400" spc="-1" strike="noStrike">
                <a:solidFill>
                  <a:srgbClr val="ffffb7"/>
                </a:solidFill>
                <a:latin typeface="Verdana"/>
              </a:rPr>
              <a:t>El articulo es obligatorio cuando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sintagma nominal carece de expresión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formal diferenciada de géne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artista – la artis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sintagma nominal carece de expresión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formal diferenciada de núme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crisis – las cri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 necesaria la expresión del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neutr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lo bueno, lo verde, lo modern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2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ffffb7"/>
                </a:solidFill>
                <a:uFillTx/>
                <a:latin typeface="Arial Black"/>
              </a:rPr>
              <a:t>referencia genérica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s referimos en general  a los individuos  que forman una categor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n pensar en ninguno en concre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J: El pescado es un alimento salud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 u="sng">
                <a:solidFill>
                  <a:srgbClr val="ffffb7"/>
                </a:solidFill>
                <a:uFillTx/>
                <a:latin typeface="Arial Black"/>
              </a:rPr>
              <a:t>referencia específ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referirnos a uno o más individuos de la categoría nombr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j. ¿Qué tal tus mascotas? El perro está enfer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b7"/>
                </a:solidFill>
                <a:uFillTx/>
                <a:latin typeface="Verdana"/>
              </a:rPr>
              <a:t>Referencia genérica en sustantivos contables</a:t>
            </a:r>
            <a:r>
              <a:rPr b="0" lang="es-ES" sz="4000" spc="-1" strike="noStrike" u="sng">
                <a:solidFill>
                  <a:srgbClr val="ffffb7"/>
                </a:solidFill>
                <a:uFillTx/>
                <a:latin typeface="Arial Black"/>
              </a:rPr>
              <a:t>:</a:t>
            </a:r>
            <a:r>
              <a:rPr b="1" lang="es-ES" sz="40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l/la los/las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firmaciones referidas a toda la categorí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un/una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feridos a un individuo representante  de su cl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Ej: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historia de los Egipcios es muy interesant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Una secretaria debe saber escribir al orden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b7"/>
                </a:solidFill>
                <a:uFillTx/>
                <a:latin typeface="Verdana"/>
              </a:rPr>
              <a:t>Referencia Específica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 se habla por primera vez del elemento en cuestión: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 = un / una – unos/un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 individuo en cn concreto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= un / un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sta mañana me ha mordido un per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lur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individuos definidos que el enunciador  no quiere identificar individualmente: unos/unas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Te he traído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uno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libros de lec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Verdana"/>
              </a:rPr>
              <a:t>No se usa artículo :</a:t>
            </a:r>
            <a:r>
              <a:rPr b="0" lang="it-IT" sz="2800" spc="-1" strike="noStrike">
                <a:solidFill>
                  <a:srgbClr val="ffffb7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ara negar la posesión con el verbo tener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 Ø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j: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o siento, no tengo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n sustantivos no contables : 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j: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?Quieres otro café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¿Hay  agua en la nevera?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6:50:56Z</dcterms:created>
  <dc:creator>User</dc:creator>
  <dc:description/>
  <dc:language>en-US</dc:language>
  <cp:lastModifiedBy>Lau</cp:lastModifiedBy>
  <dcterms:modified xsi:type="dcterms:W3CDTF">2011-11-02T08:25:34Z</dcterms:modified>
  <cp:revision>53</cp:revision>
  <dc:subject/>
  <dc:title>Diapositiva 1</dc:title>
</cp:coreProperties>
</file>